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652-CBAD-4870-ADEE-3E0BE61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1D3-5173-4326-BE7A-2986B75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CF9-59E6-41DC-A8EB-1F2FB37B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750-FECF-4692-9AC2-8968106B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B87-594F-4E5E-B205-F24F840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CD01-2837-4052-BCB8-A272F82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2213-DBFC-459D-8E3C-1994588A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249-AA0F-44A3-9DED-F3B2E8B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2D7F-1ADB-4D9E-AC4D-C5706EFA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338-3D8B-48CD-887F-30B3CEE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5BE-D98B-4EB2-B1F1-BFA370A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086-4D93-42D0-923E-84608CC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6CE5-5EAE-469B-A189-CAF5A66A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6F9A-6F96-4F13-AB29-3B7A423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D23B-CE73-46E6-93F1-6AA5738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2D6E-B4C1-478A-9CDC-F3BF584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ACFA-70FD-41E1-B77D-3CEA28D4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BFC-1ECF-4428-9E5A-39E65A1B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3E6-CC39-4F29-B945-EC009550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9B1-4387-416A-B92C-8FBB1DC9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79E-B11C-40D6-BCBB-DB76886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E18-62C7-406B-B9E8-B0EAB8B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4F5-A9E1-453D-B3C1-831D330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78C-BE0F-4755-B7AD-4646547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3073-D0C4-442C-85C9-9A84460FD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76E8-28FD-4C84-A354-29C73AF7A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Mining Fuzzy Spatial Association Rules from Image Data</a:t>
            </a:r>
            <a:endParaRPr b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. Brannon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issippi Stat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November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patial Rela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Bloch applies fuzzy sets to spati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concepts of positi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ight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fuz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phology (shape &amp; size) has effect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680" y="4572000"/>
            <a:ext cx="6324840" cy="2133720"/>
            <a:chOff x="1066680" y="4572000"/>
            <a:chExt cx="6324840" cy="2133720"/>
          </a:xfrm>
        </p:grpSpPr>
        <p:sp>
          <p:nvSpPr>
            <p:cNvPr id="122" name=""/>
            <p:cNvSpPr/>
            <p:nvPr/>
          </p:nvSpPr>
          <p:spPr>
            <a:xfrm>
              <a:off x="6781680" y="4572000"/>
              <a:ext cx="533520" cy="19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55627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4572000"/>
              <a:ext cx="0" cy="21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000" y="5334120"/>
              <a:ext cx="533520" cy="533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5334120"/>
              <a:ext cx="533520" cy="533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55627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05520" y="5334120"/>
              <a:ext cx="533160" cy="533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patial Relation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s described as fuzzy sets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sp 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 , 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dsca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) whole image S in relation to R in dir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want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)(x) over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Landscape (single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2209680"/>
            <a:ext cx="2971800" cy="3431520"/>
            <a:chOff x="838080" y="2209680"/>
            <a:chExt cx="2971800" cy="3431520"/>
          </a:xfrm>
        </p:grpSpPr>
        <p:pic>
          <p:nvPicPr>
            <p:cNvPr id="137" name="test1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3808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st 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486400" y="2209680"/>
            <a:ext cx="2971800" cy="3431520"/>
            <a:chOff x="5486400" y="2209680"/>
            <a:chExt cx="2971800" cy="3431520"/>
          </a:xfrm>
        </p:grpSpPr>
        <p:pic>
          <p:nvPicPr>
            <p:cNvPr id="140" name="test1_ro2_class255_alpha0.000_approx_OO" descr=""/>
            <p:cNvPicPr/>
            <p:nvPr/>
          </p:nvPicPr>
          <p:blipFill>
            <a:blip r:embed="rId2"/>
            <a:stretch/>
          </p:blipFill>
          <p:spPr>
            <a:xfrm>
              <a:off x="55324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548640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andscape RO#2,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22400" y="2590920"/>
            <a:ext cx="1914120" cy="2028240"/>
            <a:chOff x="1022400" y="2590920"/>
            <a:chExt cx="1914120" cy="2028240"/>
          </a:xfrm>
        </p:grpSpPr>
        <p:sp>
          <p:nvSpPr>
            <p:cNvPr id="143" name=""/>
            <p:cNvSpPr/>
            <p:nvPr/>
          </p:nvSpPr>
          <p:spPr>
            <a:xfrm>
              <a:off x="1022400" y="3298680"/>
              <a:ext cx="685800" cy="685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3720" y="2895480"/>
              <a:ext cx="387360" cy="493920"/>
            </a:xfrm>
            <a:custGeom>
              <a:avLst/>
              <a:gdLst/>
              <a:ahLst/>
              <a:rect l="l" t="t" r="r" b="b"/>
              <a:pathLst>
                <a:path w="244" h="311">
                  <a:moveTo>
                    <a:pt x="0" y="311"/>
                  </a:move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8720" y="2590920"/>
              <a:ext cx="100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fer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Object #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9760" y="4038480"/>
              <a:ext cx="125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ckground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mpty Sp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562160" y="2514600"/>
            <a:ext cx="666720" cy="642240"/>
            <a:chOff x="7562160" y="2514600"/>
            <a:chExt cx="666720" cy="642240"/>
          </a:xfrm>
        </p:grpSpPr>
        <p:sp>
          <p:nvSpPr>
            <p:cNvPr id="148" name=""/>
            <p:cNvSpPr/>
            <p:nvPr/>
          </p:nvSpPr>
          <p:spPr>
            <a:xfrm>
              <a:off x="7677000" y="2514600"/>
              <a:ext cx="365400" cy="36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62160" y="281952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#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patial Relation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h procedure on all points in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: 3 stats per relation, 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N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]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90720" y="3384720"/>
                <a:ext cx="7019640" cy="30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ssibility</m:t>
                        </m:r>
                        <m:r>
                          <m:t xml:space="preserve"> 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p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t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cessity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f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7788240" y="5791320"/>
            <a:ext cx="135576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s imprec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Relation Sta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181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=0.9959, M=0.9999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.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5181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=0.7557, M=0.9079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.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8080" y="2209680"/>
            <a:ext cx="2925720" cy="2925720"/>
            <a:chOff x="838080" y="2209680"/>
            <a:chExt cx="2925720" cy="2925720"/>
          </a:xfrm>
        </p:grpSpPr>
        <p:pic>
          <p:nvPicPr>
            <p:cNvPr id="158" name="basic1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59" name=""/>
            <p:cNvSpPr/>
            <p:nvPr/>
          </p:nvSpPr>
          <p:spPr>
            <a:xfrm>
              <a:off x="1189080" y="33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3600" y="33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36576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532480" y="2209680"/>
            <a:ext cx="2925720" cy="2925720"/>
            <a:chOff x="5532480" y="2209680"/>
            <a:chExt cx="2925720" cy="2925720"/>
          </a:xfrm>
        </p:grpSpPr>
        <p:pic>
          <p:nvPicPr>
            <p:cNvPr id="163" name="basic2" descr=""/>
            <p:cNvPicPr/>
            <p:nvPr/>
          </p:nvPicPr>
          <p:blipFill>
            <a:blip r:embed="rId2"/>
            <a:stretch/>
          </p:blipFill>
          <p:spPr>
            <a:xfrm>
              <a:off x="55324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590580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088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6576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of Agrawal et al. usually of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cedent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equent Y (s,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Y is set of items in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a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.e., disj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. Be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ips (support:3%,conf:87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ons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% of ALL transactions with both X &amp; Y - high support = 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s importance (freq) in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fid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% of X transactions with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 of relationship between X and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use binary/boolean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. “Transaction includes chips/Trans. does NOT include chi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Set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range data (e.g., Price or Ag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ikant &amp; Agrawal offer mapping to Quantitative Rules to use ra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map values from range to bool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. Price = 700/Pric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7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500,999]/Price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500,999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use boolean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ok, Fu &amp; Wong complaint: interval boundaries (like TALL vs. NOT T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: Use fuzzy set inter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20,25] becom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oung Ad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ibute values have degrees of membership in several fuzzy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zzy 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zzy Relative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oci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Data M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ociation Rul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FW rule: X is 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 is B (s,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and B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s of fuzzy se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ttri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c are fuzzy analogs of supp and con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ed by fuzzy 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patial Data Min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perski &amp; Han leaders adapting General DM to Spatial Data specifically Spatial D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tial DB stores spatial data, object attribs, does spatial ops, e.g., Spatial J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ork does NOT use a Spatial D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patial Data Mining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perski &amp; Han do acknowledge Raster Image Data (not in Spatial D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d of bridge between strict SDM and Image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ypothe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fied system of above can be 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ster Image data input (K&amp;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zzy Spatial Relation metadata (Blo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Assoc Rule mining (Agrawal et al., KF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useful fuzzy rules describing generalities of object spati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ain Problem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get from Fuzzy Relation metadata tuples (Bloch) to useful ru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rul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Support and Confidence or analogs thereof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? Space? Useful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n doubt, change the [meta]data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ggregating objects into classes first, can do pseudo-mining right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: Fewer landscapes, smaller, quicker, no mining per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: lost info (e.g., no more indiv obj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Landscape (multi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8080" y="2209680"/>
            <a:ext cx="2971800" cy="3431520"/>
            <a:chOff x="838080" y="2209680"/>
            <a:chExt cx="2971800" cy="3431520"/>
          </a:xfrm>
        </p:grpSpPr>
        <p:pic>
          <p:nvPicPr>
            <p:cNvPr id="191" name="test1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92" name=""/>
            <p:cNvSpPr/>
            <p:nvPr/>
          </p:nvSpPr>
          <p:spPr>
            <a:xfrm>
              <a:off x="83808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st 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486400" y="2209680"/>
            <a:ext cx="2971800" cy="3431520"/>
            <a:chOff x="5486400" y="2209680"/>
            <a:chExt cx="2971800" cy="3431520"/>
          </a:xfrm>
        </p:grpSpPr>
        <p:pic>
          <p:nvPicPr>
            <p:cNvPr id="194" name="test1_ro7_class255_alpha0.000_approx_CC" descr=""/>
            <p:cNvPicPr/>
            <p:nvPr/>
          </p:nvPicPr>
          <p:blipFill>
            <a:blip r:embed="rId2"/>
            <a:stretch/>
          </p:blipFill>
          <p:spPr>
            <a:xfrm>
              <a:off x="5519880" y="2209680"/>
              <a:ext cx="2925720" cy="2925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548640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andscape RO#7,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066680" y="2362320"/>
            <a:ext cx="1869840" cy="2590560"/>
            <a:chOff x="1066680" y="2362320"/>
            <a:chExt cx="1869840" cy="2590560"/>
          </a:xfrm>
        </p:grpSpPr>
        <p:sp>
          <p:nvSpPr>
            <p:cNvPr id="197" name=""/>
            <p:cNvSpPr/>
            <p:nvPr/>
          </p:nvSpPr>
          <p:spPr>
            <a:xfrm>
              <a:off x="1676520" y="2895480"/>
              <a:ext cx="304560" cy="762120"/>
            </a:xfrm>
            <a:custGeom>
              <a:avLst/>
              <a:gdLst/>
              <a:ahLst/>
              <a:rect l="l" t="t" r="r" b="b"/>
              <a:pathLst>
                <a:path w="244" h="311">
                  <a:moveTo>
                    <a:pt x="0" y="311"/>
                  </a:move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8720" y="2590920"/>
              <a:ext cx="100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fer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Object #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79760" y="4038480"/>
              <a:ext cx="125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ckground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mpty Sp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2362320"/>
              <a:ext cx="609840" cy="2590560"/>
            </a:xfrm>
            <a:custGeom>
              <a:avLst/>
              <a:gdLst>
                <a:gd name="textAreaLeft" fmla="*/ 29520 w 609840"/>
                <a:gd name="textAreaRight" fmla="*/ 580320 w 609840"/>
                <a:gd name="textAreaTop" fmla="*/ 29520 h 2590560"/>
                <a:gd name="textAreaBottom" fmla="*/ 2561040 h 2590560"/>
              </a:gdLst>
              <a:ahLst/>
              <a:rect l="textAreaLeft" t="textAreaTop" r="textAreaRight" b="textAreaBottom"/>
              <a:pathLst>
                <a:path w="21600" h="91714">
                  <a:moveTo>
                    <a:pt x="3600" y="0"/>
                  </a:moveTo>
                  <a:arcTo wR="3600" hR="3600" stAng="16200000" swAng="-5400000"/>
                  <a:lnTo>
                    <a:pt x="0" y="88114"/>
                  </a:lnTo>
                  <a:arcTo wR="3600" hR="3600" stAng="10800000" swAng="-5400000"/>
                  <a:lnTo>
                    <a:pt x="18000" y="917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-class” or “Pixel-Pixel” rule for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&amp;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19320" y="2814480"/>
                <a:ext cx="71118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43000" y="5103720"/>
                <a:ext cx="3125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62720" y="5103720"/>
                <a:ext cx="208440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ecessity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ssibilit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162920" y="5791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. ex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914400" y="3195720"/>
                <a:ext cx="76471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95480" y="4981680"/>
                <a:ext cx="1625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477120" y="4981680"/>
                <a:ext cx="17287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3657600" y="2133720"/>
          <a:ext cx="4336920" cy="669960"/>
        </p:xfrm>
        <a:graphic>
          <a:graphicData uri="http://schemas.openxmlformats.org/drawingml/2006/table">
            <a:tbl>
              <a:tblPr/>
              <a:tblGrid>
                <a:gridCol w="679320"/>
                <a:gridCol w="603360"/>
                <a:gridCol w="615960"/>
                <a:gridCol w="812520"/>
                <a:gridCol w="812880"/>
                <a:gridCol w="812880"/>
              </a:tblGrid>
              <a:tr h="301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p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C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radi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: relations for all obj pairs in 4 d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612800" y="3195720"/>
                <a:ext cx="73026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1800" y="5116680"/>
                <a:ext cx="36082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deal with objs OR </m:t>
                        </m:r>
                        <m:r>
                          <m:rPr>
                            <m:lit/>
                            <m:nor/>
                          </m:rPr>
                          <m:t xml:space="preserve">pixel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029200" y="4876920"/>
                <a:ext cx="37368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y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B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Di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Set Theory by Zadeh, 196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awal et al. Introduced Association Rule Mining, 19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ok, Fu &amp; Wong extended ARs with F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h used FST for Spati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. ex. (same source obj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52480" y="2971800"/>
          <a:ext cx="5867280" cy="2575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09480"/>
                <a:gridCol w="685800"/>
                <a:gridCol w="685800"/>
                <a:gridCol w="838440"/>
                <a:gridCol w="838080"/>
                <a:gridCol w="838080"/>
              </a:tblGrid>
              <a:tr h="298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p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C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O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8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2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9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6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8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2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8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4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66680" y="2514600"/>
                <a:ext cx="7799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523880" y="4724280"/>
                <a:ext cx="160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867280" y="4572000"/>
                <a:ext cx="1729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 flipH="1" flipV="1">
            <a:off x="2514600" y="571464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65440" y="621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04800" y="2009880"/>
                <a:ext cx="749484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7200" y="4572000"/>
                <a:ext cx="388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'S' can deal with objs OR </m:t>
                        </m:r>
                        <m:r>
                          <m:rPr>
                            <m:lit/>
                            <m:nor/>
                          </m:rPr>
                          <m:t xml:space="preserve">pixe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bov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-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mula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57800" y="4114800"/>
                <a:ext cx="31003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B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Di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pproach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71640" y="2514600"/>
                <a:ext cx="79912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inDi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47920" y="4457880"/>
                <a:ext cx="17524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3600" y="4419720"/>
                <a:ext cx="1728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flipH="1" flipV="1">
            <a:off x="1905120" y="586728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70160" y="62136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“Object-Object” and “Class-Class” look promising, each with str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ecision is inherent – passing through to Confidence is actually good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rules can be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of thresholding to prune low fuzzy values, streamlin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 real world data, e.g.,  preclassified NAVO seafloor SONAR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zzy 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zzy Relative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oci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Data M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lected Referen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rawal, R., T. Imielinski, and A. Swami. 1993. Mining associations between sets of items in massive databases.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roceedings of the 1993 ACM SIGMOD Int’l Conferences on Management of Data held in Washington, DC, May 26-28, 1993, 207-216. New York: ACM Pres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h, I. 1999. Fuzzy relative position between objects in image processing: A morphological approach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EEE Transactions on Pattern Analysis and Machine Intellig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1(7):657-664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yyad, U. M., G. Piatetsky-Shapiro, P. Smyth, and R.  Uthurusamy (Eds.). 1996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vances in knowledge discovery and data min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Menlo Parks, CA: AAAI/MIT P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norr, E. M., and R. T. Ng. 1996. Finding aggregate proximity relationships and commonalities in spatial data mining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EEE Transactions on Knowledge and Data Engineer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8(6):884-89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lected References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perski, K., J. Adhikary, and J. Han. 1996. Knowledge discovery in spatial databases: Progress and challenges.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roceedings of the 1996 ACM SIGMOD Workshop on Research Issues on Data Mining and Knowledge Discovery (DMKD’96) held in Montr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al, June 2, 199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55-70. IRIS/Precar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uok, C. M., A. W.-C. Fu, and M. H. Wong. 1998. Mining fuzzy association rules in databases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IGMOD Recor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7(1):41-4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uo, J. and S. M. Bridges. 2000. Mining fuzzy association rules and frequency episodes for intrusion detection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ternational Journal of Intelligent Syste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5(8):687-70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deh, L.A. 1965. Fuzzy sets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nformation and Contro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8(3):338-35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immerman, H.-J. 1996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uzzy set theory – and its applica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d.). Boston: Kluwer Academic Publish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. Susan Bridges (Major Profess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n Taylor (code revi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roduction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perski &amp; Han leaders adapting Data Mining to Spa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propose synthesizing some of these techniques to fi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ized fuzzy association ru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object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RL for Presentation Slid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msstate.edu/~smithg/seminar2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estions and Comments?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: Periodic collection of vast amounts of data = tedious for human to 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: OKEANOS project sponsored by NAVO collects many seafloor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ining/Knowledge Discovery hel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Set Theory (Zade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Relative Position (Blo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ion Rules (Agrawal et a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zzy Association Rules (Kuok, Fu &amp; Wo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tial Data Mining (Koperski &amp; H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et Theor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/Crisp set membership is TOTAL or N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escribe with characteristic function - map universe onto {0,1}, a set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for definite sets, e.g. Turing wi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et Theory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: imprecise sets such as T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NOT TALL/TALL bound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eh proposed set membership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 mapping to [0,1] (interval), so 0.7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 membership function at user discretion – domain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uzzy Set Theory (cont.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operator analogs: complement, cardinality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on &amp; Intersection typically max &amp; min respectively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re are oth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give proper results for crisp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02:35:07Z</dcterms:created>
  <dc:creator>MSEL</dc:creator>
  <dc:description/>
  <dc:language>en-US</dc:language>
  <cp:lastModifiedBy>George B Smith</cp:lastModifiedBy>
  <cp:lastPrinted>2000-04-18T04:33:52Z</cp:lastPrinted>
  <dcterms:modified xsi:type="dcterms:W3CDTF">2000-11-10T18:37:39Z</dcterms:modified>
  <cp:revision>146</cp:revision>
  <dc:subject/>
  <dc:title>Online Auto Dealer System</dc:title>
</cp:coreProperties>
</file>